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7.jpeg" ContentType="image/jpeg"/>
  <Override PartName="/ppt/media/image25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7.png" ContentType="image/png"/>
  <Override PartName="/ppt/media/image11.png" ContentType="image/png"/>
  <Override PartName="/ppt/media/image6.wmf" ContentType="image/x-wmf"/>
  <Override PartName="/ppt/media/image36.png" ContentType="image/png"/>
  <Override PartName="/ppt/media/image12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FBC7-E3D4-4EDB-A054-8BEAE152D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4A6C-5B94-4875-8140-3C5B28D6A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0E28-2028-4FB2-8ADF-499FAA98C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BE34-0F2D-4560-888B-D567D51C0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5F8E-F4C0-48BE-BB60-53C9E3837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A844-CE2F-4FF9-8246-8E6C442DB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ABCF-ABA1-4008-8CD3-44C51683A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B380-3733-4B6B-AD68-4B537A628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CAA2-5D94-4DAA-8137-0C93B5A83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B36B-46C4-4FB7-BB91-E479512F8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152F-CA01-49C0-8C9F-FBD2B0680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D6D3-3C1F-4F04-985C-A360B7BCC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BDCC-A354-407F-A7EF-5FA287CF9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BD8A-4061-4F16-AB38-88F553A35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1179-AFAF-4F54-B4CA-5BABEDDB3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A4B2-04DE-459F-B433-A8037894B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0001-14FB-46F8-9651-900CACB8C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DE81-6C7F-4371-B875-8CFE40486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AE28-6249-481C-AC16-4BB854055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6D61-A742-4C2C-94F7-9E2502AE9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371E-2AE7-4CA9-92F0-C806AC02C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7984-F267-41A4-84F0-32498DF7B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77A3-EC85-4A88-9A0A-6D49CFD82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F9B2-F866-41A8-BB4E-FEA881658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83B4-3D07-4ED7-A6C6-2BCC72D18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20C1-FDD1-4B0C-8D4F-2DA474889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4BB2-E7B1-4860-9FBC-98D894136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38A3-F600-48B8-A835-1138A63C6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EDDB-4E1D-4552-B5B7-32B9CAEAE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4460-A726-4456-81B9-F8A7E76E3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7F0B-F906-412F-B8B6-3372FEFDC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1EE6-BC81-4330-BF49-FB309CEB8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F936-86C5-4A24-B653-EB862A9A0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4775-1983-4774-B39D-801A38119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9B99-7D0D-4070-B96E-C32ADF17D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F15A-25C4-4934-9D81-FDA96F138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FF5C-7AA6-4886-97F8-44E39C716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9AB5-73A5-4D33-A8C4-9AB70403F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F02E-D94F-46BE-8BF3-ABFB06474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346F-5078-4ECD-AE64-F86AD639E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6326-332F-4005-A02A-73747951E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382F-0884-4978-B516-A5C178E9B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ED2E-F940-467F-BD0B-AD13BA9EC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8086-F981-4A8D-8393-EFBFD5FB9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F8F8-5FD7-4088-8EAB-4D33B7FA2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0227-B783-44B6-8CBA-335621C88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65B6-3159-4F58-BD0A-9EBC50F0E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65FA-C6CE-46D2-AD8D-B3DA2CACA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CC12-D890-4410-AAE2-8394232E2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5788-4298-4882-9FEF-74F3340BC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E392-23F8-4E41-A228-C68C0C431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8FF5-9BE7-4BC1-8A30-E41550C30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20BC-C820-4C84-B8F9-359907D84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292D-015B-4736-93CE-1947A15E3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5084-3E48-44B6-B884-FDC15114A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6DF5-E693-4DD9-8924-EE582DCD1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3CB2-A29B-4B87-A2C5-10877152E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0A20-DFBD-4CE7-94E7-403DEA69D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DC6B-13C5-4F24-9DF6-B598D05A6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3E71-7EBF-4019-964F-58B898A9F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990C-400E-4739-8EFC-BC2F8377E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4ECB-93A8-4560-A468-3DFFBDFDD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28A3-A371-488A-B7A3-EFE573EC9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0C27-D42A-4B6D-8227-EA9E2C0F4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5343-DD63-4FFB-A4CD-958B07ED2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A3B4-CF67-49F3-957B-0DC6FD556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2725-4543-4C24-95E7-3CD0FC655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1961-0684-41EA-81AE-CED5FA8FF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59CC-52E0-413F-B266-62829B47C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049-9BF0-444F-A9ED-05003CF9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634-7E89-4F11-B078-7B9144EB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8F3-8D08-4D84-B750-F7A5D6B7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771-E1FE-4707-8717-A7DD0C59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67C1-7B04-4688-B3FD-504C8974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8D02-5C2A-456A-AE2F-D23FAC45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692-0E50-451E-BCFA-3E555F50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654-EE83-46BC-8D99-2E522A80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4B7-BE7B-4C5E-9518-E62D3144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B71-325B-4634-8351-DDF0562B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6C7-7F26-4CF3-99C9-F5F06653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398-1A45-4960-A45A-F7BEDAE4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AA12-30CA-4A30-A942-45A93A907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U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fied Modeling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G Standard, Object Management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work from Booch, Rumbaugh, Jacob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L is a modeling language to express and design documents,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ularly useful for O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 process, but some have been proposed using U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of implementatio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View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s should to fit the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ll systems require all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processor: drop deployment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process: drop process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mall program: drop implementation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stem might need additional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view, security view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L: First Pas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model 80% of most problems by using about 20 % U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cover the 20%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Modeling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 process, key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 details and behaviors of use cases and domain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classes that do the work and define the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L Bas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ase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Transition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ment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Case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during requirements elicitation to represent external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c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present roles, that is, a type of user of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a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present a sequence of interaction for a  type of functionality; summary of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case model is  the set of all use cases. It is a complete description of the functionality of the  system and its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819000" y="1754280"/>
            <a:ext cx="1646640" cy="1679040"/>
            <a:chOff x="819000" y="1754280"/>
            <a:chExt cx="1646640" cy="1679040"/>
          </a:xfrm>
        </p:grpSpPr>
        <p:grpSp>
          <p:nvGrpSpPr>
            <p:cNvPr id="84" name="Group 5"/>
            <p:cNvGrpSpPr/>
            <p:nvPr/>
          </p:nvGrpSpPr>
          <p:grpSpPr>
            <a:xfrm>
              <a:off x="1309680" y="1754280"/>
              <a:ext cx="705960" cy="1242720"/>
              <a:chOff x="1309680" y="1754280"/>
              <a:chExt cx="705960" cy="1242720"/>
            </a:xfrm>
          </p:grpSpPr>
          <p:sp>
            <p:nvSpPr>
              <p:cNvPr id="85" name="Freeform 6"/>
              <p:cNvSpPr/>
              <p:nvPr/>
            </p:nvSpPr>
            <p:spPr>
              <a:xfrm>
                <a:off x="1309680" y="2009160"/>
                <a:ext cx="337680" cy="98784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987840"/>
                  <a:gd name="textAreaBottom" fmla="*/ 988200 h 987840"/>
                </a:gdLst>
                <a:ahLst/>
                <a:rect l="textAreaLeft" t="textAreaTop" r="textAreaRight" b="textAreaBottom"/>
                <a:pathLst>
                  <a:path w="143" h="418">
                    <a:moveTo>
                      <a:pt x="143" y="0"/>
                    </a:moveTo>
                    <a:lnTo>
                      <a:pt x="143" y="263"/>
                    </a:lnTo>
                    <a:lnTo>
                      <a:pt x="0" y="41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7"/>
              <p:cNvSpPr/>
              <p:nvPr/>
            </p:nvSpPr>
            <p:spPr>
              <a:xfrm>
                <a:off x="1647360" y="2630520"/>
                <a:ext cx="368280" cy="36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>
                <a:off x="1309680" y="2290320"/>
                <a:ext cx="705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Oval 9"/>
              <p:cNvSpPr/>
              <p:nvPr/>
            </p:nvSpPr>
            <p:spPr>
              <a:xfrm>
                <a:off x="1479600" y="1754280"/>
                <a:ext cx="365400" cy="368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Rectangle 10"/>
            <p:cNvSpPr/>
            <p:nvPr/>
          </p:nvSpPr>
          <p:spPr>
            <a:xfrm>
              <a:off x="819000" y="3067200"/>
              <a:ext cx="164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2329560" y="4257720"/>
            <a:ext cx="2561040" cy="1168200"/>
            <a:chOff x="2329560" y="4257720"/>
            <a:chExt cx="2561040" cy="1168200"/>
          </a:xfrm>
        </p:grpSpPr>
        <p:sp>
          <p:nvSpPr>
            <p:cNvPr id="91" name="Oval 12"/>
            <p:cNvSpPr/>
            <p:nvPr/>
          </p:nvSpPr>
          <p:spPr>
            <a:xfrm>
              <a:off x="2631960" y="4257720"/>
              <a:ext cx="1778400" cy="759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13"/>
            <p:cNvSpPr/>
            <p:nvPr/>
          </p:nvSpPr>
          <p:spPr>
            <a:xfrm>
              <a:off x="2329560" y="505980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urchaseTi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Line 14"/>
          <p:cNvSpPr/>
          <p:nvPr/>
        </p:nvSpPr>
        <p:spPr>
          <a:xfrm>
            <a:off x="2155680" y="3624120"/>
            <a:ext cx="582840" cy="50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87600" y="1600200"/>
            <a:ext cx="6199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ctor models an external entity which communicates with the sy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ctor has a unique name and an optional descri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nger: A person in the t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PS satellite: Provides the system with  GPS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691920" y="2122560"/>
            <a:ext cx="1646640" cy="1680480"/>
            <a:chOff x="691920" y="2122560"/>
            <a:chExt cx="1646640" cy="1680480"/>
          </a:xfrm>
        </p:grpSpPr>
        <p:grpSp>
          <p:nvGrpSpPr>
            <p:cNvPr id="97" name="Group 5"/>
            <p:cNvGrpSpPr/>
            <p:nvPr/>
          </p:nvGrpSpPr>
          <p:grpSpPr>
            <a:xfrm>
              <a:off x="1131840" y="2122560"/>
              <a:ext cx="706320" cy="1242720"/>
              <a:chOff x="1131840" y="2122560"/>
              <a:chExt cx="706320" cy="1242720"/>
            </a:xfrm>
          </p:grpSpPr>
          <p:sp>
            <p:nvSpPr>
              <p:cNvPr id="98" name="Freeform 6"/>
              <p:cNvSpPr/>
              <p:nvPr/>
            </p:nvSpPr>
            <p:spPr>
              <a:xfrm>
                <a:off x="1131840" y="2377440"/>
                <a:ext cx="337680" cy="987840"/>
              </a:xfrm>
              <a:custGeom>
                <a:avLst/>
                <a:gdLst>
                  <a:gd name="textAreaLeft" fmla="*/ 0 w 337680"/>
                  <a:gd name="textAreaRight" fmla="*/ 338040 w 337680"/>
                  <a:gd name="textAreaTop" fmla="*/ 0 h 987840"/>
                  <a:gd name="textAreaBottom" fmla="*/ 988200 h 987840"/>
                </a:gdLst>
                <a:ahLst/>
                <a:rect l="textAreaLeft" t="textAreaTop" r="textAreaRight" b="textAreaBottom"/>
                <a:pathLst>
                  <a:path w="143" h="418">
                    <a:moveTo>
                      <a:pt x="143" y="0"/>
                    </a:moveTo>
                    <a:lnTo>
                      <a:pt x="143" y="263"/>
                    </a:lnTo>
                    <a:lnTo>
                      <a:pt x="0" y="41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7"/>
              <p:cNvSpPr/>
              <p:nvPr/>
            </p:nvSpPr>
            <p:spPr>
              <a:xfrm>
                <a:off x="1469520" y="2998800"/>
                <a:ext cx="368280" cy="36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8"/>
              <p:cNvSpPr/>
              <p:nvPr/>
            </p:nvSpPr>
            <p:spPr>
              <a:xfrm>
                <a:off x="1131840" y="2658600"/>
                <a:ext cx="7063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9"/>
              <p:cNvSpPr/>
              <p:nvPr/>
            </p:nvSpPr>
            <p:spPr>
              <a:xfrm>
                <a:off x="1302120" y="2122560"/>
                <a:ext cx="365760" cy="368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Rectangle 10"/>
            <p:cNvSpPr/>
            <p:nvPr/>
          </p:nvSpPr>
          <p:spPr>
            <a:xfrm>
              <a:off x="691920" y="3436920"/>
              <a:ext cx="1646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92400" y="1294920"/>
            <a:ext cx="5594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se case represents a class of functionality provided by the system as an event f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se case consist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ting 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y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t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322920" y="2505240"/>
            <a:ext cx="2561040" cy="1168200"/>
            <a:chOff x="322920" y="2505240"/>
            <a:chExt cx="2561040" cy="1168200"/>
          </a:xfrm>
        </p:grpSpPr>
        <p:sp>
          <p:nvSpPr>
            <p:cNvPr id="106" name="Oval 5"/>
            <p:cNvSpPr/>
            <p:nvPr/>
          </p:nvSpPr>
          <p:spPr>
            <a:xfrm>
              <a:off x="625320" y="2505240"/>
              <a:ext cx="1778400" cy="759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322920" y="330732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urchaseTi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Case Diagram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rchase ti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rticipating acto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try condi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nding in front of ticket distribu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sufficient money to purchase tic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it cond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tic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ent flo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lects the number of zones to be trave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Distributor displays the amount d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en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erts money, of at least the amount d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Distributor returns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Distributor issues tic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326480" y="4833360"/>
            <a:ext cx="30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ythi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ssi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296600" y="5569920"/>
            <a:ext cx="31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ceptional cas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000" spc="-1" strike="noStrike">
                <a:solidFill>
                  <a:srgbClr val="000000"/>
                </a:solidFill>
                <a:latin typeface="Courier New"/>
              </a:rPr>
              <a:t>&lt;&lt;extends&gt;&gt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4080" y="990360"/>
            <a:ext cx="450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&lt;extends&gt;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lationships represent exceptional or seldom invoked c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ceptional event flows are factored out of the main event flow for cla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ases representing exceptional flows can extend more than one use 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rection of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&lt;extends&gt;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lationship is to the extended us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2130480" y="1271520"/>
            <a:ext cx="1920960" cy="2357640"/>
            <a:chOff x="2130480" y="1271520"/>
            <a:chExt cx="1920960" cy="2357640"/>
          </a:xfrm>
        </p:grpSpPr>
        <p:grpSp>
          <p:nvGrpSpPr>
            <p:cNvPr id="116" name="Group 5"/>
            <p:cNvGrpSpPr/>
            <p:nvPr/>
          </p:nvGrpSpPr>
          <p:grpSpPr>
            <a:xfrm>
              <a:off x="2473200" y="1271520"/>
              <a:ext cx="1235160" cy="1101960"/>
              <a:chOff x="2473200" y="1271520"/>
              <a:chExt cx="1235160" cy="1101960"/>
            </a:xfrm>
          </p:grpSpPr>
          <p:grpSp>
            <p:nvGrpSpPr>
              <p:cNvPr id="117" name="Group 6"/>
              <p:cNvGrpSpPr/>
              <p:nvPr/>
            </p:nvGrpSpPr>
            <p:grpSpPr>
              <a:xfrm>
                <a:off x="2868480" y="1271520"/>
                <a:ext cx="444600" cy="782640"/>
                <a:chOff x="2868480" y="1271520"/>
                <a:chExt cx="444600" cy="782640"/>
              </a:xfrm>
            </p:grpSpPr>
            <p:sp>
              <p:nvSpPr>
                <p:cNvPr id="118" name="Freeform 7"/>
                <p:cNvSpPr/>
                <p:nvPr/>
              </p:nvSpPr>
              <p:spPr>
                <a:xfrm>
                  <a:off x="2868480" y="1432080"/>
                  <a:ext cx="212400" cy="622080"/>
                </a:xfrm>
                <a:custGeom>
                  <a:avLst/>
                  <a:gdLst>
                    <a:gd name="textAreaLeft" fmla="*/ 0 w 212400"/>
                    <a:gd name="textAreaRight" fmla="*/ 212760 w 212400"/>
                    <a:gd name="textAreaTop" fmla="*/ 0 h 622080"/>
                    <a:gd name="textAreaBottom" fmla="*/ 622440 h 622080"/>
                  </a:gdLst>
                  <a:ahLst/>
                  <a:rect l="textAreaLeft" t="textAreaTop" r="textAreaRight" b="textAreaBottom"/>
                  <a:pathLst>
                    <a:path w="143" h="418">
                      <a:moveTo>
                        <a:pt x="143" y="0"/>
                      </a:moveTo>
                      <a:lnTo>
                        <a:pt x="143" y="263"/>
                      </a:lnTo>
                      <a:lnTo>
                        <a:pt x="0" y="418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8"/>
                <p:cNvSpPr/>
                <p:nvPr/>
              </p:nvSpPr>
              <p:spPr>
                <a:xfrm>
                  <a:off x="3080880" y="1823400"/>
                  <a:ext cx="231840" cy="230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9"/>
                <p:cNvSpPr/>
                <p:nvPr/>
              </p:nvSpPr>
              <p:spPr>
                <a:xfrm>
                  <a:off x="2868480" y="1609200"/>
                  <a:ext cx="44460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Oval 10"/>
                <p:cNvSpPr/>
                <p:nvPr/>
              </p:nvSpPr>
              <p:spPr>
                <a:xfrm>
                  <a:off x="2975400" y="1271520"/>
                  <a:ext cx="230040" cy="231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Rectangle 11"/>
              <p:cNvSpPr/>
              <p:nvPr/>
            </p:nvSpPr>
            <p:spPr>
              <a:xfrm>
                <a:off x="2473200" y="2098800"/>
                <a:ext cx="1235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asseng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Group 12"/>
            <p:cNvGrpSpPr/>
            <p:nvPr/>
          </p:nvGrpSpPr>
          <p:grpSpPr>
            <a:xfrm>
              <a:off x="2130480" y="2849400"/>
              <a:ext cx="1920960" cy="779760"/>
              <a:chOff x="2130480" y="2849400"/>
              <a:chExt cx="1920960" cy="779760"/>
            </a:xfrm>
          </p:grpSpPr>
          <p:sp>
            <p:nvSpPr>
              <p:cNvPr id="124" name="Oval 13"/>
              <p:cNvSpPr/>
              <p:nvPr/>
            </p:nvSpPr>
            <p:spPr>
              <a:xfrm>
                <a:off x="2530440" y="2849400"/>
                <a:ext cx="1120680" cy="478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2130480" y="3354480"/>
                <a:ext cx="192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PurchaseTick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Line 15"/>
            <p:cNvSpPr/>
            <p:nvPr/>
          </p:nvSpPr>
          <p:spPr>
            <a:xfrm flipH="1">
              <a:off x="3088800" y="2449440"/>
              <a:ext cx="1800" cy="32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3662280" y="3732120"/>
            <a:ext cx="3481200" cy="1846800"/>
            <a:chOff x="3662280" y="3732120"/>
            <a:chExt cx="3481200" cy="1846800"/>
          </a:xfrm>
        </p:grpSpPr>
        <p:grpSp>
          <p:nvGrpSpPr>
            <p:cNvPr id="128" name="Group 17"/>
            <p:cNvGrpSpPr/>
            <p:nvPr/>
          </p:nvGrpSpPr>
          <p:grpSpPr>
            <a:xfrm>
              <a:off x="6022800" y="4799160"/>
              <a:ext cx="1120680" cy="779760"/>
              <a:chOff x="6022800" y="4799160"/>
              <a:chExt cx="1120680" cy="779760"/>
            </a:xfrm>
          </p:grpSpPr>
          <p:sp>
            <p:nvSpPr>
              <p:cNvPr id="129" name="Oval 18"/>
              <p:cNvSpPr/>
              <p:nvPr/>
            </p:nvSpPr>
            <p:spPr>
              <a:xfrm>
                <a:off x="6022800" y="4799160"/>
                <a:ext cx="1120680" cy="478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6101280" y="5304240"/>
                <a:ext cx="960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imeOu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Line 20"/>
            <p:cNvSpPr/>
            <p:nvPr/>
          </p:nvSpPr>
          <p:spPr>
            <a:xfrm>
              <a:off x="3662280" y="3732120"/>
              <a:ext cx="2259000" cy="11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4419720" y="48589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2972160" y="3795840"/>
            <a:ext cx="2310840" cy="2690640"/>
            <a:chOff x="2972160" y="3795840"/>
            <a:chExt cx="2310840" cy="2690640"/>
          </a:xfrm>
        </p:grpSpPr>
        <p:grpSp>
          <p:nvGrpSpPr>
            <p:cNvPr id="134" name="Group 23"/>
            <p:cNvGrpSpPr/>
            <p:nvPr/>
          </p:nvGrpSpPr>
          <p:grpSpPr>
            <a:xfrm>
              <a:off x="4162320" y="5707080"/>
              <a:ext cx="1120680" cy="779400"/>
              <a:chOff x="4162320" y="5707080"/>
              <a:chExt cx="1120680" cy="779400"/>
            </a:xfrm>
          </p:grpSpPr>
          <p:sp>
            <p:nvSpPr>
              <p:cNvPr id="135" name="Oval 24"/>
              <p:cNvSpPr/>
              <p:nvPr/>
            </p:nvSpPr>
            <p:spPr>
              <a:xfrm>
                <a:off x="4162320" y="5707080"/>
                <a:ext cx="1120680" cy="477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25"/>
              <p:cNvSpPr/>
              <p:nvPr/>
            </p:nvSpPr>
            <p:spPr>
              <a:xfrm>
                <a:off x="4172040" y="6211800"/>
                <a:ext cx="1098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oChan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Line 26"/>
            <p:cNvSpPr/>
            <p:nvPr/>
          </p:nvSpPr>
          <p:spPr>
            <a:xfrm>
              <a:off x="3319560" y="3795840"/>
              <a:ext cx="1268280" cy="180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27"/>
            <p:cNvSpPr/>
            <p:nvPr/>
          </p:nvSpPr>
          <p:spPr>
            <a:xfrm>
              <a:off x="2972160" y="53035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28"/>
          <p:cNvGrpSpPr/>
          <p:nvPr/>
        </p:nvGrpSpPr>
        <p:grpSpPr>
          <a:xfrm>
            <a:off x="222120" y="3757680"/>
            <a:ext cx="2398320" cy="1820880"/>
            <a:chOff x="222120" y="3757680"/>
            <a:chExt cx="2398320" cy="1820880"/>
          </a:xfrm>
        </p:grpSpPr>
        <p:grpSp>
          <p:nvGrpSpPr>
            <p:cNvPr id="140" name="Group 29"/>
            <p:cNvGrpSpPr/>
            <p:nvPr/>
          </p:nvGrpSpPr>
          <p:grpSpPr>
            <a:xfrm>
              <a:off x="222120" y="4799160"/>
              <a:ext cx="1381680" cy="779400"/>
              <a:chOff x="222120" y="4799160"/>
              <a:chExt cx="1381680" cy="779400"/>
            </a:xfrm>
          </p:grpSpPr>
          <p:sp>
            <p:nvSpPr>
              <p:cNvPr id="141" name="Oval 30"/>
              <p:cNvSpPr/>
              <p:nvPr/>
            </p:nvSpPr>
            <p:spPr>
              <a:xfrm>
                <a:off x="222120" y="4799160"/>
                <a:ext cx="1121040" cy="477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31"/>
              <p:cNvSpPr/>
              <p:nvPr/>
            </p:nvSpPr>
            <p:spPr>
              <a:xfrm>
                <a:off x="231480" y="5303880"/>
                <a:ext cx="1372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OutOfOrd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Line 32"/>
            <p:cNvSpPr/>
            <p:nvPr/>
          </p:nvSpPr>
          <p:spPr>
            <a:xfrm flipH="1">
              <a:off x="1158480" y="3757680"/>
              <a:ext cx="1461960" cy="9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33"/>
            <p:cNvSpPr/>
            <p:nvPr/>
          </p:nvSpPr>
          <p:spPr>
            <a:xfrm>
              <a:off x="470160" y="397008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34"/>
          <p:cNvGrpSpPr/>
          <p:nvPr/>
        </p:nvGrpSpPr>
        <p:grpSpPr>
          <a:xfrm>
            <a:off x="1473480" y="3782880"/>
            <a:ext cx="1726920" cy="2703600"/>
            <a:chOff x="1473480" y="3782880"/>
            <a:chExt cx="1726920" cy="2703600"/>
          </a:xfrm>
        </p:grpSpPr>
        <p:grpSp>
          <p:nvGrpSpPr>
            <p:cNvPr id="146" name="Group 35"/>
            <p:cNvGrpSpPr/>
            <p:nvPr/>
          </p:nvGrpSpPr>
          <p:grpSpPr>
            <a:xfrm>
              <a:off x="2079720" y="5707080"/>
              <a:ext cx="1120680" cy="779400"/>
              <a:chOff x="2079720" y="5707080"/>
              <a:chExt cx="1120680" cy="779400"/>
            </a:xfrm>
          </p:grpSpPr>
          <p:sp>
            <p:nvSpPr>
              <p:cNvPr id="147" name="Oval 36"/>
              <p:cNvSpPr/>
              <p:nvPr/>
            </p:nvSpPr>
            <p:spPr>
              <a:xfrm>
                <a:off x="2079720" y="5707080"/>
                <a:ext cx="1120680" cy="477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37"/>
              <p:cNvSpPr/>
              <p:nvPr/>
            </p:nvSpPr>
            <p:spPr>
              <a:xfrm>
                <a:off x="2160000" y="621180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anc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Line 38"/>
            <p:cNvSpPr/>
            <p:nvPr/>
          </p:nvSpPr>
          <p:spPr>
            <a:xfrm flipH="1">
              <a:off x="2784600" y="3782880"/>
              <a:ext cx="141120" cy="184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39"/>
            <p:cNvSpPr/>
            <p:nvPr/>
          </p:nvSpPr>
          <p:spPr>
            <a:xfrm>
              <a:off x="1473480" y="46303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000" spc="-1" strike="noStrike">
                <a:solidFill>
                  <a:srgbClr val="000000"/>
                </a:solidFill>
                <a:latin typeface="Courier New"/>
              </a:rPr>
              <a:t>&lt;&lt;includes&gt;&gt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97600" y="1294920"/>
            <a:ext cx="4046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&lt;includes&gt;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lationship represents behavior that is factored out of the use c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&lt;includes&gt;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havior is factored out for reuse, not because it is an exce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rection of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&lt;includes&gt;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lationship is to the using use case (unli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&lt;extends&gt;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lationship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873000" y="1284120"/>
            <a:ext cx="1235160" cy="1101960"/>
            <a:chOff x="873000" y="1284120"/>
            <a:chExt cx="1235160" cy="1101960"/>
          </a:xfrm>
        </p:grpSpPr>
        <p:grpSp>
          <p:nvGrpSpPr>
            <p:cNvPr id="154" name="Group 5"/>
            <p:cNvGrpSpPr/>
            <p:nvPr/>
          </p:nvGrpSpPr>
          <p:grpSpPr>
            <a:xfrm>
              <a:off x="1268280" y="1284120"/>
              <a:ext cx="444600" cy="782640"/>
              <a:chOff x="1268280" y="1284120"/>
              <a:chExt cx="444600" cy="782640"/>
            </a:xfrm>
          </p:grpSpPr>
          <p:sp>
            <p:nvSpPr>
              <p:cNvPr id="155" name="Freeform 6"/>
              <p:cNvSpPr/>
              <p:nvPr/>
            </p:nvSpPr>
            <p:spPr>
              <a:xfrm>
                <a:off x="1268280" y="1444680"/>
                <a:ext cx="212400" cy="62208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143" h="418">
                    <a:moveTo>
                      <a:pt x="143" y="0"/>
                    </a:moveTo>
                    <a:lnTo>
                      <a:pt x="143" y="263"/>
                    </a:lnTo>
                    <a:lnTo>
                      <a:pt x="0" y="41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7"/>
              <p:cNvSpPr/>
              <p:nvPr/>
            </p:nvSpPr>
            <p:spPr>
              <a:xfrm>
                <a:off x="1480680" y="1836000"/>
                <a:ext cx="231840" cy="23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8"/>
              <p:cNvSpPr/>
              <p:nvPr/>
            </p:nvSpPr>
            <p:spPr>
              <a:xfrm>
                <a:off x="1268280" y="1621800"/>
                <a:ext cx="44460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Oval 9"/>
              <p:cNvSpPr/>
              <p:nvPr/>
            </p:nvSpPr>
            <p:spPr>
              <a:xfrm>
                <a:off x="1375200" y="1284120"/>
                <a:ext cx="230040" cy="2318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Rectangle 10"/>
            <p:cNvSpPr/>
            <p:nvPr/>
          </p:nvSpPr>
          <p:spPr>
            <a:xfrm>
              <a:off x="873000" y="2111400"/>
              <a:ext cx="123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assen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11"/>
          <p:cNvGrpSpPr/>
          <p:nvPr/>
        </p:nvGrpSpPr>
        <p:grpSpPr>
          <a:xfrm>
            <a:off x="147240" y="2862360"/>
            <a:ext cx="2743920" cy="779400"/>
            <a:chOff x="147240" y="2862360"/>
            <a:chExt cx="2743920" cy="779400"/>
          </a:xfrm>
        </p:grpSpPr>
        <p:sp>
          <p:nvSpPr>
            <p:cNvPr id="161" name="Oval 12"/>
            <p:cNvSpPr/>
            <p:nvPr/>
          </p:nvSpPr>
          <p:spPr>
            <a:xfrm>
              <a:off x="958680" y="2862360"/>
              <a:ext cx="112032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3"/>
            <p:cNvSpPr/>
            <p:nvPr/>
          </p:nvSpPr>
          <p:spPr>
            <a:xfrm>
              <a:off x="147240" y="3367080"/>
              <a:ext cx="274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urchaseSingleTic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Line 14"/>
          <p:cNvSpPr/>
          <p:nvPr/>
        </p:nvSpPr>
        <p:spPr>
          <a:xfrm flipH="1">
            <a:off x="1488600" y="2462040"/>
            <a:ext cx="1800" cy="32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15"/>
          <p:cNvGrpSpPr/>
          <p:nvPr/>
        </p:nvGrpSpPr>
        <p:grpSpPr>
          <a:xfrm>
            <a:off x="2612160" y="2405160"/>
            <a:ext cx="2332440" cy="779400"/>
            <a:chOff x="2612160" y="2405160"/>
            <a:chExt cx="2332440" cy="779400"/>
          </a:xfrm>
        </p:grpSpPr>
        <p:sp>
          <p:nvSpPr>
            <p:cNvPr id="165" name="Oval 16"/>
            <p:cNvSpPr/>
            <p:nvPr/>
          </p:nvSpPr>
          <p:spPr>
            <a:xfrm>
              <a:off x="3218040" y="2405160"/>
              <a:ext cx="1120680" cy="477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7"/>
            <p:cNvSpPr/>
            <p:nvPr/>
          </p:nvSpPr>
          <p:spPr>
            <a:xfrm>
              <a:off x="2612160" y="2909880"/>
              <a:ext cx="23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PurchaseMulti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Line 18"/>
          <p:cNvSpPr/>
          <p:nvPr/>
        </p:nvSpPr>
        <p:spPr>
          <a:xfrm>
            <a:off x="2227320" y="2017800"/>
            <a:ext cx="111600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9"/>
          <p:cNvGrpSpPr/>
          <p:nvPr/>
        </p:nvGrpSpPr>
        <p:grpSpPr>
          <a:xfrm>
            <a:off x="368640" y="5011200"/>
            <a:ext cx="1654920" cy="1272240"/>
            <a:chOff x="368640" y="5011200"/>
            <a:chExt cx="1654920" cy="1272240"/>
          </a:xfrm>
        </p:grpSpPr>
        <p:grpSp>
          <p:nvGrpSpPr>
            <p:cNvPr id="169" name="Group 20"/>
            <p:cNvGrpSpPr/>
            <p:nvPr/>
          </p:nvGrpSpPr>
          <p:grpSpPr>
            <a:xfrm>
              <a:off x="743040" y="5504040"/>
              <a:ext cx="1120680" cy="779400"/>
              <a:chOff x="743040" y="5504040"/>
              <a:chExt cx="1120680" cy="779400"/>
            </a:xfrm>
          </p:grpSpPr>
          <p:sp>
            <p:nvSpPr>
              <p:cNvPr id="170" name="Oval 21"/>
              <p:cNvSpPr/>
              <p:nvPr/>
            </p:nvSpPr>
            <p:spPr>
              <a:xfrm>
                <a:off x="743040" y="5504040"/>
                <a:ext cx="1120680" cy="477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Rectangle 22"/>
              <p:cNvSpPr/>
              <p:nvPr/>
            </p:nvSpPr>
            <p:spPr>
              <a:xfrm>
                <a:off x="752400" y="6008760"/>
                <a:ext cx="1098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oChan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Line 23"/>
            <p:cNvSpPr/>
            <p:nvPr/>
          </p:nvSpPr>
          <p:spPr>
            <a:xfrm flipH="1">
              <a:off x="1539360" y="5091120"/>
              <a:ext cx="484200" cy="30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4"/>
            <p:cNvSpPr/>
            <p:nvPr/>
          </p:nvSpPr>
          <p:spPr>
            <a:xfrm>
              <a:off x="368640" y="501120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3967200" y="5074920"/>
            <a:ext cx="1834560" cy="1208880"/>
            <a:chOff x="3967200" y="5074920"/>
            <a:chExt cx="1834560" cy="1208880"/>
          </a:xfrm>
        </p:grpSpPr>
        <p:grpSp>
          <p:nvGrpSpPr>
            <p:cNvPr id="175" name="Group 26"/>
            <p:cNvGrpSpPr/>
            <p:nvPr/>
          </p:nvGrpSpPr>
          <p:grpSpPr>
            <a:xfrm>
              <a:off x="4105440" y="5504040"/>
              <a:ext cx="1120680" cy="779760"/>
              <a:chOff x="4105440" y="5504040"/>
              <a:chExt cx="1120680" cy="779760"/>
            </a:xfrm>
          </p:grpSpPr>
          <p:sp>
            <p:nvSpPr>
              <p:cNvPr id="176" name="Oval 27"/>
              <p:cNvSpPr/>
              <p:nvPr/>
            </p:nvSpPr>
            <p:spPr>
              <a:xfrm>
                <a:off x="4105440" y="5504040"/>
                <a:ext cx="1120680" cy="478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28"/>
              <p:cNvSpPr/>
              <p:nvPr/>
            </p:nvSpPr>
            <p:spPr>
              <a:xfrm>
                <a:off x="4184280" y="600912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anc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Line 29"/>
            <p:cNvSpPr/>
            <p:nvPr/>
          </p:nvSpPr>
          <p:spPr>
            <a:xfrm>
              <a:off x="3967200" y="5141880"/>
              <a:ext cx="455400" cy="29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30"/>
            <p:cNvSpPr/>
            <p:nvPr/>
          </p:nvSpPr>
          <p:spPr>
            <a:xfrm>
              <a:off x="4280040" y="50749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extend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31"/>
          <p:cNvGrpSpPr/>
          <p:nvPr/>
        </p:nvGrpSpPr>
        <p:grpSpPr>
          <a:xfrm>
            <a:off x="3191040" y="3236760"/>
            <a:ext cx="1955160" cy="1070280"/>
            <a:chOff x="3191040" y="3236760"/>
            <a:chExt cx="1955160" cy="1070280"/>
          </a:xfrm>
        </p:grpSpPr>
        <p:sp>
          <p:nvSpPr>
            <p:cNvPr id="181" name="Line 32"/>
            <p:cNvSpPr/>
            <p:nvPr/>
          </p:nvSpPr>
          <p:spPr>
            <a:xfrm flipH="1">
              <a:off x="3191040" y="3236760"/>
              <a:ext cx="522000" cy="10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3502440" y="365256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includ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34"/>
          <p:cNvGrpSpPr/>
          <p:nvPr/>
        </p:nvGrpSpPr>
        <p:grpSpPr>
          <a:xfrm>
            <a:off x="756000" y="3706920"/>
            <a:ext cx="3085200" cy="1458720"/>
            <a:chOff x="756000" y="3706920"/>
            <a:chExt cx="3085200" cy="1458720"/>
          </a:xfrm>
        </p:grpSpPr>
        <p:grpSp>
          <p:nvGrpSpPr>
            <p:cNvPr id="184" name="Group 35"/>
            <p:cNvGrpSpPr/>
            <p:nvPr/>
          </p:nvGrpSpPr>
          <p:grpSpPr>
            <a:xfrm>
              <a:off x="2194560" y="4386240"/>
              <a:ext cx="1646640" cy="779400"/>
              <a:chOff x="2194560" y="4386240"/>
              <a:chExt cx="1646640" cy="779400"/>
            </a:xfrm>
          </p:grpSpPr>
          <p:sp>
            <p:nvSpPr>
              <p:cNvPr id="185" name="Oval 36"/>
              <p:cNvSpPr/>
              <p:nvPr/>
            </p:nvSpPr>
            <p:spPr>
              <a:xfrm>
                <a:off x="2457360" y="4386240"/>
                <a:ext cx="1120680" cy="477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37"/>
              <p:cNvSpPr/>
              <p:nvPr/>
            </p:nvSpPr>
            <p:spPr>
              <a:xfrm>
                <a:off x="2194560" y="4890960"/>
                <a:ext cx="1646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CollectMone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Line 38"/>
            <p:cNvSpPr/>
            <p:nvPr/>
          </p:nvSpPr>
          <p:spPr>
            <a:xfrm>
              <a:off x="1681200" y="3706920"/>
              <a:ext cx="1103400" cy="62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39"/>
            <p:cNvSpPr/>
            <p:nvPr/>
          </p:nvSpPr>
          <p:spPr>
            <a:xfrm>
              <a:off x="756000" y="398268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includes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use U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tandard, Graphical not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ing, visualizing, constructing, and documenting softwar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can be used from general initial design to very specific detailed design across the entire software development life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understanding/communication of product to customers and 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diverse application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UML in many software packages today (e.g. Rational, plugins for popular IDE’s like NetBeans, Eclip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upon experience and needs of the user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Cases are useful t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ng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use cases often generate new requirements as the system is analyzed and the design takes shap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ng with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notational simplicity makes use case diagrams a good way for developers to communicate with cli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ng test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llection of scenarios for a use case may suggest a suite of test cases for those scenar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Case Diagram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se diagrams represent external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se diagrams are useful as an index into the use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se descriptions provide meat of model, not the use case dia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use cases need to be described for the model to be use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an overview of a system by showing its classes and the relationships among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diagrams are stat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display what interacts but not what happens when they do inte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hows attributes and operations of each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way to describe the overall architecture of system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Diagram Persp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raw Class Diagrams under three 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the interfaces of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the implementation of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es – Not Just fo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229600" cy="16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 a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encapsulates stat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attribute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behavi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operation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attribute ha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peration ha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ass name is the only mandatory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873000" y="2243160"/>
            <a:ext cx="2248200" cy="1306440"/>
            <a:chOff x="873000" y="2243160"/>
            <a:chExt cx="2248200" cy="1306440"/>
          </a:xfrm>
        </p:grpSpPr>
        <p:sp>
          <p:nvSpPr>
            <p:cNvPr id="200" name="Text Box 5"/>
            <p:cNvSpPr/>
            <p:nvPr/>
          </p:nvSpPr>
          <p:spPr>
            <a:xfrm>
              <a:off x="927000" y="2627280"/>
              <a:ext cx="2194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zone2pr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etZones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etPric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Group 6"/>
            <p:cNvGrpSpPr/>
            <p:nvPr/>
          </p:nvGrpSpPr>
          <p:grpSpPr>
            <a:xfrm>
              <a:off x="879480" y="2243160"/>
              <a:ext cx="2206800" cy="447480"/>
              <a:chOff x="879480" y="2243160"/>
              <a:chExt cx="2206800" cy="447480"/>
            </a:xfrm>
          </p:grpSpPr>
          <p:sp>
            <p:nvSpPr>
              <p:cNvPr id="202" name="Rectangle 7"/>
              <p:cNvSpPr/>
              <p:nvPr/>
            </p:nvSpPr>
            <p:spPr>
              <a:xfrm>
                <a:off x="879480" y="2243160"/>
                <a:ext cx="2206800" cy="44748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Rectangle 8"/>
              <p:cNvSpPr/>
              <p:nvPr/>
            </p:nvSpPr>
            <p:spPr>
              <a:xfrm>
                <a:off x="1022400" y="2392200"/>
                <a:ext cx="192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TariffSchedu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Rectangle 9"/>
            <p:cNvSpPr/>
            <p:nvPr/>
          </p:nvSpPr>
          <p:spPr>
            <a:xfrm>
              <a:off x="873000" y="2695680"/>
              <a:ext cx="2213280" cy="2570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878040" y="2962440"/>
              <a:ext cx="2211120" cy="5871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11"/>
          <p:cNvGrpSpPr/>
          <p:nvPr/>
        </p:nvGrpSpPr>
        <p:grpSpPr>
          <a:xfrm>
            <a:off x="5187960" y="922320"/>
            <a:ext cx="3635280" cy="1306440"/>
            <a:chOff x="5187960" y="922320"/>
            <a:chExt cx="3635280" cy="1306440"/>
          </a:xfrm>
        </p:grpSpPr>
        <p:sp>
          <p:nvSpPr>
            <p:cNvPr id="207" name="Text Box 12"/>
            <p:cNvSpPr/>
            <p:nvPr/>
          </p:nvSpPr>
          <p:spPr>
            <a:xfrm>
              <a:off x="5265720" y="1306440"/>
              <a:ext cx="3557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Tabl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zone2pr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Enumera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getZones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Pric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getPrice(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Zon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5187960" y="922320"/>
              <a:ext cx="3578400" cy="4474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>
              <a:off x="6016680" y="1071360"/>
              <a:ext cx="192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iffSchedu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5"/>
            <p:cNvSpPr/>
            <p:nvPr/>
          </p:nvSpPr>
          <p:spPr>
            <a:xfrm>
              <a:off x="5191200" y="1374480"/>
              <a:ext cx="3573360" cy="257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6"/>
            <p:cNvSpPr/>
            <p:nvPr/>
          </p:nvSpPr>
          <p:spPr>
            <a:xfrm>
              <a:off x="5199120" y="1641240"/>
              <a:ext cx="3573360" cy="587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AutoShape 17"/>
          <p:cNvSpPr/>
          <p:nvPr/>
        </p:nvSpPr>
        <p:spPr>
          <a:xfrm>
            <a:off x="3670200" y="1676520"/>
            <a:ext cx="1244880" cy="609480"/>
          </a:xfrm>
          <a:prstGeom prst="wedgeRoundRectCallout">
            <a:avLst>
              <a:gd name="adj1" fmla="val -91328"/>
              <a:gd name="adj2" fmla="val 86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18"/>
          <p:cNvSpPr/>
          <p:nvPr/>
        </p:nvSpPr>
        <p:spPr>
          <a:xfrm>
            <a:off x="3441600" y="2489040"/>
            <a:ext cx="1689120" cy="609840"/>
          </a:xfrm>
          <a:prstGeom prst="wedgeRoundRectCallout">
            <a:avLst>
              <a:gd name="adj1" fmla="val -68421"/>
              <a:gd name="adj2" fmla="val 963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9"/>
          <p:cNvSpPr/>
          <p:nvPr/>
        </p:nvSpPr>
        <p:spPr>
          <a:xfrm>
            <a:off x="3479760" y="3289320"/>
            <a:ext cx="1689120" cy="609480"/>
          </a:xfrm>
          <a:prstGeom prst="wedgeRoundRectCallout">
            <a:avLst>
              <a:gd name="adj1" fmla="val -72930"/>
              <a:gd name="adj2" fmla="val -5911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20"/>
          <p:cNvSpPr/>
          <p:nvPr/>
        </p:nvSpPr>
        <p:spPr>
          <a:xfrm>
            <a:off x="6210360" y="2451240"/>
            <a:ext cx="1689120" cy="609480"/>
          </a:xfrm>
          <a:prstGeom prst="wedgeRoundRectCallout">
            <a:avLst>
              <a:gd name="adj1" fmla="val -74435"/>
              <a:gd name="adj2" fmla="val -9453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21"/>
          <p:cNvGrpSpPr/>
          <p:nvPr/>
        </p:nvGrpSpPr>
        <p:grpSpPr>
          <a:xfrm>
            <a:off x="6315120" y="3309840"/>
            <a:ext cx="2206440" cy="447480"/>
            <a:chOff x="6315120" y="3309840"/>
            <a:chExt cx="2206440" cy="447480"/>
          </a:xfrm>
        </p:grpSpPr>
        <p:sp>
          <p:nvSpPr>
            <p:cNvPr id="217" name="Rectangle 22"/>
            <p:cNvSpPr/>
            <p:nvPr/>
          </p:nvSpPr>
          <p:spPr>
            <a:xfrm>
              <a:off x="6315120" y="3309840"/>
              <a:ext cx="2206440" cy="4474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23"/>
            <p:cNvSpPr/>
            <p:nvPr/>
          </p:nvSpPr>
          <p:spPr>
            <a:xfrm>
              <a:off x="6457680" y="3458880"/>
              <a:ext cx="1920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ariffSchedu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391788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s a phenomen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me of an instanc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derlin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can contain the class of the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ttributes are represented with thei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903320" y="1878120"/>
            <a:ext cx="34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one2price =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‘1’, .20}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‘2’, .40}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‘3’, .60}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5"/>
          <p:cNvGrpSpPr/>
          <p:nvPr/>
        </p:nvGrpSpPr>
        <p:grpSpPr>
          <a:xfrm>
            <a:off x="1593360" y="1494000"/>
            <a:ext cx="3732480" cy="447480"/>
            <a:chOff x="1593360" y="1494000"/>
            <a:chExt cx="3732480" cy="447480"/>
          </a:xfrm>
        </p:grpSpPr>
        <p:sp>
          <p:nvSpPr>
            <p:cNvPr id="223" name="Rectangle 6"/>
            <p:cNvSpPr/>
            <p:nvPr/>
          </p:nvSpPr>
          <p:spPr>
            <a:xfrm>
              <a:off x="1827360" y="1494000"/>
              <a:ext cx="3498480" cy="4474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1593360" y="1643040"/>
              <a:ext cx="342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tarif_1974:TariffSchedu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Rectangle 8"/>
          <p:cNvSpPr/>
          <p:nvPr/>
        </p:nvSpPr>
        <p:spPr>
          <a:xfrm>
            <a:off x="1825560" y="1946160"/>
            <a:ext cx="3505320" cy="1171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L Class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is a rectangle divided into three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attributes (i.e. data members, variab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operations (i.e. metho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: -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: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ed: 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: Underlined  (i.e. shared among all members of the 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tract class:  Name in ital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Object 4"/>
          <p:cNvGraphicFramePr/>
          <p:nvPr/>
        </p:nvGraphicFramePr>
        <p:xfrm>
          <a:off x="2819520" y="4648320"/>
          <a:ext cx="3886200" cy="19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648320"/>
                    <a:ext cx="3886200" cy="19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L Class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or arrows between classes indicate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relationship between instances of two classes, where one class must know about the other to do its work, e.g. client communicates to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ted by a straight line or ar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greg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association where one class belongs to a collection, e.g. instructor part of Facul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ted by an empty diamond on the side of the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ong form of Aggre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fetime control; components cannot exist without the aggre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ted by a solid diamond on the side of the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inheritance link indicating one class a superclass relationship, e.g. bird is part of mam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ted by triangle pointing to 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2" descr=""/>
          <p:cNvPicPr/>
          <p:nvPr/>
        </p:nvPicPr>
        <p:blipFill>
          <a:blip r:embed="rId1"/>
          <a:stretch/>
        </p:blipFill>
        <p:spPr>
          <a:xfrm>
            <a:off x="2286000" y="2409840"/>
            <a:ext cx="3695760" cy="8668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Asso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5"/>
          <p:cNvSpPr/>
          <p:nvPr/>
        </p:nvSpPr>
        <p:spPr>
          <a:xfrm flipH="1">
            <a:off x="1981080" y="31240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1523880" y="3657600"/>
            <a:ext cx="1752840" cy="9907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1600200" y="39625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B.servic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5181480" y="3657600"/>
            <a:ext cx="2133720" cy="9907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5257800" y="39625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A.doSomethin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907920" y="1676520"/>
            <a:ext cx="75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Association: Both entities “Know About”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5410080" y="32767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1899360" y="5334120"/>
            <a:ext cx="53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ly, may create an Associat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ry Asso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133720" y="2413080"/>
            <a:ext cx="4276440" cy="847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1449000" y="167652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knows about B, but B knows nothing abou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4572000" y="2717640"/>
            <a:ext cx="838080" cy="13716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163840" y="4054320"/>
            <a:ext cx="327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ow points in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8"/>
          <p:cNvSpPr/>
          <p:nvPr/>
        </p:nvSpPr>
        <p:spPr>
          <a:xfrm flipH="1">
            <a:off x="1981080" y="325116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1523880" y="3784680"/>
            <a:ext cx="1752840" cy="9903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1600200" y="408924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B.servic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undated with methodologies in early 9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ch, Jacobson, Yourden, Rumba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ch, Jacobson merged methods 19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mbaugh joined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7 UML 1.1 from OMG includes input from others, e.g. You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L v2.0 current 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381560" cy="8665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290880" y="1676520"/>
            <a:ext cx="87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ion is an association with a “collection-member”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6"/>
          <p:cNvSpPr/>
          <p:nvPr/>
        </p:nvSpPr>
        <p:spPr>
          <a:xfrm flipH="1">
            <a:off x="1981080" y="325116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1523880" y="3784680"/>
            <a:ext cx="2210040" cy="101592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600200" y="40068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id doSomething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aModule.servic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4646520" y="3886200"/>
            <a:ext cx="347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low diamon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llection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ole ownership imp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3"/>
          <p:cNvSpPr/>
          <p:nvPr/>
        </p:nvSpPr>
        <p:spPr>
          <a:xfrm flipH="1" flipV="1">
            <a:off x="4419720" y="2742840"/>
            <a:ext cx="38088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Object 5"/>
          <p:cNvGraphicFramePr/>
          <p:nvPr/>
        </p:nvGraphicFramePr>
        <p:xfrm>
          <a:off x="1219320" y="3200400"/>
          <a:ext cx="65530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200400"/>
                    <a:ext cx="65530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Text Box 6"/>
          <p:cNvSpPr/>
          <p:nvPr/>
        </p:nvSpPr>
        <p:spPr>
          <a:xfrm>
            <a:off x="446760" y="1447920"/>
            <a:ext cx="83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ion is Aggregation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time Control (owner controls construction, destru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bject may belong to only one whol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429000" y="5181480"/>
            <a:ext cx="29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ed diamond on side of the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8"/>
          <p:cNvSpPr/>
          <p:nvPr/>
        </p:nvSpPr>
        <p:spPr>
          <a:xfrm flipH="1" flipV="1">
            <a:off x="3123720" y="4038120"/>
            <a:ext cx="38124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9"/>
          <p:cNvSpPr/>
          <p:nvPr/>
        </p:nvSpPr>
        <p:spPr>
          <a:xfrm flipH="1">
            <a:off x="9144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0"/>
          <p:cNvSpPr/>
          <p:nvPr/>
        </p:nvSpPr>
        <p:spPr>
          <a:xfrm>
            <a:off x="457200" y="4648320"/>
            <a:ext cx="2209680" cy="15238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533520" y="4724280"/>
            <a:ext cx="19047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bers[0] =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new Employe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ete members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1895400" cy="22860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5"/>
          <p:cNvSpPr/>
          <p:nvPr/>
        </p:nvSpPr>
        <p:spPr>
          <a:xfrm>
            <a:off x="2433600" y="144792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concept of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6"/>
          <p:cNvSpPr/>
          <p:nvPr/>
        </p:nvSpPr>
        <p:spPr>
          <a:xfrm flipH="1">
            <a:off x="4191120" y="4495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3733920" y="5029200"/>
            <a:ext cx="2057400" cy="8380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809880" y="5105520"/>
            <a:ext cx="1905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B() extend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6095880" y="266688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0"/>
          <p:cNvSpPr/>
          <p:nvPr/>
        </p:nvSpPr>
        <p:spPr>
          <a:xfrm flipH="1" flipV="1">
            <a:off x="5638680" y="25905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6095880" y="419112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2"/>
          <p:cNvSpPr/>
          <p:nvPr/>
        </p:nvSpPr>
        <p:spPr>
          <a:xfrm flipH="1" flipV="1">
            <a:off x="5638680" y="41144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L Multiplic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609480" y="2438280"/>
          <a:ext cx="7848720" cy="3246480"/>
        </p:xfrm>
        <a:graphic>
          <a:graphicData uri="http://schemas.openxmlformats.org/drawingml/2006/table">
            <a:tbl>
              <a:tblPr/>
              <a:tblGrid>
                <a:gridCol w="2286000"/>
                <a:gridCol w="5562720"/>
              </a:tblGrid>
              <a:tr h="533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ic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ro or one instance. The notation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. . 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dicates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stanc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*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 or 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limit on the number of instances (including none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ctly one in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.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 least one in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Text Box 68"/>
          <p:cNvSpPr/>
          <p:nvPr/>
        </p:nvSpPr>
        <p:spPr>
          <a:xfrm>
            <a:off x="368640" y="1752480"/>
            <a:ext cx="83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s on associations to specify more details about the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L Clas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610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ociation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ssign names to the ends of the association to give furthe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8"/>
          <p:cNvGrpSpPr/>
          <p:nvPr/>
        </p:nvGrpSpPr>
        <p:grpSpPr>
          <a:xfrm>
            <a:off x="990720" y="3581280"/>
            <a:ext cx="6400800" cy="1582920"/>
            <a:chOff x="990720" y="3581280"/>
            <a:chExt cx="6400800" cy="1582920"/>
          </a:xfrm>
        </p:grpSpPr>
        <p:sp>
          <p:nvSpPr>
            <p:cNvPr id="285" name="AutoShape 7"/>
            <p:cNvSpPr/>
            <p:nvPr/>
          </p:nvSpPr>
          <p:spPr>
            <a:xfrm>
              <a:off x="990720" y="3581280"/>
              <a:ext cx="6400800" cy="15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9"/>
            <p:cNvSpPr/>
            <p:nvPr/>
          </p:nvSpPr>
          <p:spPr>
            <a:xfrm>
              <a:off x="4586400" y="4587840"/>
              <a:ext cx="2779560" cy="54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0"/>
            <p:cNvSpPr/>
            <p:nvPr/>
          </p:nvSpPr>
          <p:spPr>
            <a:xfrm>
              <a:off x="4586400" y="4587840"/>
              <a:ext cx="2779560" cy="54936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1"/>
            <p:cNvSpPr/>
            <p:nvPr/>
          </p:nvSpPr>
          <p:spPr>
            <a:xfrm>
              <a:off x="4634640" y="46004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2"/>
            <p:cNvSpPr/>
            <p:nvPr/>
          </p:nvSpPr>
          <p:spPr>
            <a:xfrm>
              <a:off x="4710600" y="460044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t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3"/>
            <p:cNvSpPr/>
            <p:nvPr/>
          </p:nvSpPr>
          <p:spPr>
            <a:xfrm>
              <a:off x="5293800" y="460044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) 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4"/>
            <p:cNvSpPr/>
            <p:nvPr/>
          </p:nvSpPr>
          <p:spPr>
            <a:xfrm>
              <a:off x="5502600" y="4600440"/>
              <a:ext cx="37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15"/>
            <p:cNvSpPr/>
            <p:nvPr/>
          </p:nvSpPr>
          <p:spPr>
            <a:xfrm>
              <a:off x="4634640" y="47750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6"/>
            <p:cNvSpPr/>
            <p:nvPr/>
          </p:nvSpPr>
          <p:spPr>
            <a:xfrm>
              <a:off x="4708080" y="4775040"/>
              <a:ext cx="61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t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7"/>
            <p:cNvSpPr/>
            <p:nvPr/>
          </p:nvSpPr>
          <p:spPr>
            <a:xfrm>
              <a:off x="5290560" y="4775040"/>
              <a:ext cx="10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18"/>
            <p:cNvSpPr/>
            <p:nvPr/>
          </p:nvSpPr>
          <p:spPr>
            <a:xfrm>
              <a:off x="4640040" y="4948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19"/>
            <p:cNvSpPr/>
            <p:nvPr/>
          </p:nvSpPr>
          <p:spPr>
            <a:xfrm>
              <a:off x="4665240" y="494820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cInternalStu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20"/>
            <p:cNvSpPr/>
            <p:nvPr/>
          </p:nvSpPr>
          <p:spPr>
            <a:xfrm>
              <a:off x="5711400" y="4948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21"/>
            <p:cNvSpPr/>
            <p:nvPr/>
          </p:nvSpPr>
          <p:spPr>
            <a:xfrm>
              <a:off x="5743440" y="49482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x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22"/>
            <p:cNvSpPr/>
            <p:nvPr/>
          </p:nvSpPr>
          <p:spPr>
            <a:xfrm>
              <a:off x="6015600" y="494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23"/>
            <p:cNvSpPr/>
            <p:nvPr/>
          </p:nvSpPr>
          <p:spPr>
            <a:xfrm>
              <a:off x="6093000" y="494820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24"/>
            <p:cNvSpPr/>
            <p:nvPr/>
          </p:nvSpPr>
          <p:spPr>
            <a:xfrm>
              <a:off x="6363000" y="494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25"/>
            <p:cNvSpPr/>
            <p:nvPr/>
          </p:nvSpPr>
          <p:spPr>
            <a:xfrm>
              <a:off x="6440400" y="49482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26"/>
            <p:cNvSpPr/>
            <p:nvPr/>
          </p:nvSpPr>
          <p:spPr>
            <a:xfrm>
              <a:off x="6710760" y="494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27"/>
            <p:cNvSpPr/>
            <p:nvPr/>
          </p:nvSpPr>
          <p:spPr>
            <a:xfrm>
              <a:off x="6786000" y="4948200"/>
              <a:ext cx="52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cim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28"/>
            <p:cNvSpPr/>
            <p:nvPr/>
          </p:nvSpPr>
          <p:spPr>
            <a:xfrm>
              <a:off x="7278480" y="4948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29"/>
            <p:cNvSpPr/>
            <p:nvPr/>
          </p:nvSpPr>
          <p:spPr>
            <a:xfrm>
              <a:off x="4586400" y="3865680"/>
              <a:ext cx="2779560" cy="72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30"/>
            <p:cNvSpPr/>
            <p:nvPr/>
          </p:nvSpPr>
          <p:spPr>
            <a:xfrm>
              <a:off x="4586400" y="3865680"/>
              <a:ext cx="2779560" cy="72216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31"/>
            <p:cNvSpPr/>
            <p:nvPr/>
          </p:nvSpPr>
          <p:spPr>
            <a:xfrm>
              <a:off x="4640040" y="3876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32"/>
            <p:cNvSpPr/>
            <p:nvPr/>
          </p:nvSpPr>
          <p:spPr>
            <a:xfrm>
              <a:off x="4674600" y="38768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m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33"/>
            <p:cNvSpPr/>
            <p:nvPr/>
          </p:nvSpPr>
          <p:spPr>
            <a:xfrm>
              <a:off x="5104440" y="3876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34"/>
            <p:cNvSpPr/>
            <p:nvPr/>
          </p:nvSpPr>
          <p:spPr>
            <a:xfrm>
              <a:off x="5181840" y="3876840"/>
              <a:ext cx="37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35"/>
            <p:cNvSpPr/>
            <p:nvPr/>
          </p:nvSpPr>
          <p:spPr>
            <a:xfrm>
              <a:off x="4634640" y="40514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36"/>
            <p:cNvSpPr/>
            <p:nvPr/>
          </p:nvSpPr>
          <p:spPr>
            <a:xfrm>
              <a:off x="4715280" y="40514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37"/>
            <p:cNvSpPr/>
            <p:nvPr/>
          </p:nvSpPr>
          <p:spPr>
            <a:xfrm>
              <a:off x="4904280" y="405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38"/>
            <p:cNvSpPr/>
            <p:nvPr/>
          </p:nvSpPr>
          <p:spPr>
            <a:xfrm>
              <a:off x="4981680" y="40514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39"/>
            <p:cNvSpPr/>
            <p:nvPr/>
          </p:nvSpPr>
          <p:spPr>
            <a:xfrm>
              <a:off x="4636080" y="4226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40"/>
            <p:cNvSpPr/>
            <p:nvPr/>
          </p:nvSpPr>
          <p:spPr>
            <a:xfrm>
              <a:off x="4709160" y="422604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lar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41"/>
            <p:cNvSpPr/>
            <p:nvPr/>
          </p:nvSpPr>
          <p:spPr>
            <a:xfrm>
              <a:off x="5158440" y="4226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42"/>
            <p:cNvSpPr/>
            <p:nvPr/>
          </p:nvSpPr>
          <p:spPr>
            <a:xfrm>
              <a:off x="5232960" y="422604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u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43"/>
            <p:cNvSpPr/>
            <p:nvPr/>
          </p:nvSpPr>
          <p:spPr>
            <a:xfrm>
              <a:off x="4640040" y="4398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44"/>
            <p:cNvSpPr/>
            <p:nvPr/>
          </p:nvSpPr>
          <p:spPr>
            <a:xfrm>
              <a:off x="4673160" y="439884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fa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45"/>
            <p:cNvSpPr/>
            <p:nvPr/>
          </p:nvSpPr>
          <p:spPr>
            <a:xfrm>
              <a:off x="5037480" y="439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46"/>
            <p:cNvSpPr/>
            <p:nvPr/>
          </p:nvSpPr>
          <p:spPr>
            <a:xfrm>
              <a:off x="5116680" y="43988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47"/>
            <p:cNvSpPr/>
            <p:nvPr/>
          </p:nvSpPr>
          <p:spPr>
            <a:xfrm>
              <a:off x="4586400" y="3608280"/>
              <a:ext cx="2779560" cy="2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48"/>
            <p:cNvSpPr/>
            <p:nvPr/>
          </p:nvSpPr>
          <p:spPr>
            <a:xfrm>
              <a:off x="4586400" y="3608280"/>
              <a:ext cx="2779560" cy="25740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49"/>
            <p:cNvSpPr/>
            <p:nvPr/>
          </p:nvSpPr>
          <p:spPr>
            <a:xfrm>
              <a:off x="5657400" y="3649680"/>
              <a:ext cx="72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loy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50"/>
            <p:cNvSpPr/>
            <p:nvPr/>
          </p:nvSpPr>
          <p:spPr>
            <a:xfrm>
              <a:off x="1017720" y="4219560"/>
              <a:ext cx="173808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51"/>
            <p:cNvSpPr/>
            <p:nvPr/>
          </p:nvSpPr>
          <p:spPr>
            <a:xfrm>
              <a:off x="1017720" y="4219560"/>
              <a:ext cx="1738080" cy="22536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52"/>
            <p:cNvSpPr/>
            <p:nvPr/>
          </p:nvSpPr>
          <p:spPr>
            <a:xfrm>
              <a:off x="1017720" y="3994200"/>
              <a:ext cx="173808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53"/>
            <p:cNvSpPr/>
            <p:nvPr/>
          </p:nvSpPr>
          <p:spPr>
            <a:xfrm>
              <a:off x="1017720" y="3994200"/>
              <a:ext cx="1738080" cy="22536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54"/>
            <p:cNvSpPr/>
            <p:nvPr/>
          </p:nvSpPr>
          <p:spPr>
            <a:xfrm>
              <a:off x="1064880" y="4011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55"/>
            <p:cNvSpPr/>
            <p:nvPr/>
          </p:nvSpPr>
          <p:spPr>
            <a:xfrm>
              <a:off x="1113120" y="401148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er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56"/>
            <p:cNvSpPr/>
            <p:nvPr/>
          </p:nvSpPr>
          <p:spPr>
            <a:xfrm>
              <a:off x="1743480" y="4011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57"/>
            <p:cNvSpPr/>
            <p:nvPr/>
          </p:nvSpPr>
          <p:spPr>
            <a:xfrm>
              <a:off x="1814760" y="401148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ploy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58"/>
            <p:cNvSpPr/>
            <p:nvPr/>
          </p:nvSpPr>
          <p:spPr>
            <a:xfrm>
              <a:off x="1017720" y="3736800"/>
              <a:ext cx="1738080" cy="2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59"/>
            <p:cNvSpPr/>
            <p:nvPr/>
          </p:nvSpPr>
          <p:spPr>
            <a:xfrm>
              <a:off x="1017720" y="3736800"/>
              <a:ext cx="1738080" cy="25740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60"/>
            <p:cNvSpPr/>
            <p:nvPr/>
          </p:nvSpPr>
          <p:spPr>
            <a:xfrm>
              <a:off x="1728000" y="377028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61"/>
            <p:cNvSpPr/>
            <p:nvPr/>
          </p:nvSpPr>
          <p:spPr>
            <a:xfrm>
              <a:off x="3047760" y="3770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62"/>
            <p:cNvSpPr/>
            <p:nvPr/>
          </p:nvSpPr>
          <p:spPr>
            <a:xfrm>
              <a:off x="3066120" y="377028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63"/>
            <p:cNvSpPr/>
            <p:nvPr/>
          </p:nvSpPr>
          <p:spPr>
            <a:xfrm>
              <a:off x="3016800" y="426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64"/>
            <p:cNvSpPr/>
            <p:nvPr/>
          </p:nvSpPr>
          <p:spPr>
            <a:xfrm>
              <a:off x="3742920" y="4011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65"/>
            <p:cNvSpPr/>
            <p:nvPr/>
          </p:nvSpPr>
          <p:spPr>
            <a:xfrm>
              <a:off x="3762360" y="4011480"/>
              <a:ext cx="71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individ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66"/>
            <p:cNvSpPr/>
            <p:nvPr/>
          </p:nvSpPr>
          <p:spPr>
            <a:xfrm>
              <a:off x="4300560" y="450684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67"/>
            <p:cNvSpPr/>
            <p:nvPr/>
          </p:nvSpPr>
          <p:spPr>
            <a:xfrm>
              <a:off x="2954160" y="4121280"/>
              <a:ext cx="1632240" cy="2523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68"/>
            <p:cNvSpPr/>
            <p:nvPr/>
          </p:nvSpPr>
          <p:spPr>
            <a:xfrm>
              <a:off x="2755800" y="4043520"/>
              <a:ext cx="198360" cy="125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25" h="79">
                  <a:moveTo>
                    <a:pt x="57" y="79"/>
                  </a:moveTo>
                  <a:lnTo>
                    <a:pt x="0" y="30"/>
                  </a:lnTo>
                  <a:lnTo>
                    <a:pt x="69" y="0"/>
                  </a:lnTo>
                  <a:lnTo>
                    <a:pt x="125" y="49"/>
                  </a:lnTo>
                  <a:lnTo>
                    <a:pt x="57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69"/>
            <p:cNvSpPr/>
            <p:nvPr/>
          </p:nvSpPr>
          <p:spPr>
            <a:xfrm>
              <a:off x="2755800" y="4043520"/>
              <a:ext cx="198360" cy="125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25" h="79">
                  <a:moveTo>
                    <a:pt x="57" y="79"/>
                  </a:moveTo>
                  <a:lnTo>
                    <a:pt x="0" y="30"/>
                  </a:lnTo>
                  <a:lnTo>
                    <a:pt x="69" y="0"/>
                  </a:lnTo>
                  <a:lnTo>
                    <a:pt x="125" y="49"/>
                  </a:lnTo>
                  <a:lnTo>
                    <a:pt x="57" y="79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vs. Dynamic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design describes code structure and object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at desig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design shows communication between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ity to class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follow sequence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change depending upon execution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Object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instances of Class Diagrams and links among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object diagram is a snapshot of the objects in a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 point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 selected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ons – Sequence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 passing – Collaboration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 – Deployment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88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name : 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n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6" descr=""/>
          <p:cNvPicPr/>
          <p:nvPr/>
        </p:nvPicPr>
        <p:blipFill>
          <a:blip r:embed="rId1"/>
          <a:stretch/>
        </p:blipFill>
        <p:spPr>
          <a:xfrm>
            <a:off x="2971800" y="4267080"/>
            <a:ext cx="43243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s and 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067440" cy="43434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1289520" y="6095880"/>
            <a:ext cx="60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dd association type and also message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U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696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rganize complex class diagrams, you can group classes into packages. A package is a collection of logically related UML ele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es appear as rectangles with small tabs at the to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ckage name is on the tab or inside the rect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otted arrows are dependencies. One package depends on another if changes in the other could possibly force changes in the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es are the basic grouping construct with which you may organize UML models to increase their read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4324320" y="2921040"/>
            <a:ext cx="2095560" cy="64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4384440" y="3181320"/>
            <a:ext cx="202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atcher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2521080" y="4064040"/>
            <a:ext cx="1879560" cy="64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2852280" y="4324320"/>
            <a:ext cx="128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4870440" y="4127400"/>
            <a:ext cx="1981080" cy="64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4881600" y="4387680"/>
            <a:ext cx="192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cident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3"/>
          <p:cNvSpPr/>
          <p:nvPr/>
        </p:nvSpPr>
        <p:spPr>
          <a:xfrm flipH="1">
            <a:off x="3943080" y="4013280"/>
            <a:ext cx="12708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14"/>
          <p:cNvSpPr/>
          <p:nvPr/>
        </p:nvSpPr>
        <p:spPr>
          <a:xfrm>
            <a:off x="3943440" y="3975120"/>
            <a:ext cx="139680" cy="76320"/>
          </a:xfrm>
          <a:custGeom>
            <a:avLst/>
            <a:gdLst>
              <a:gd name="textAreaLeft" fmla="*/ 0 w 139680"/>
              <a:gd name="textAreaRight" fmla="*/ 140040 w 1396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88" h="48">
                <a:moveTo>
                  <a:pt x="88" y="40"/>
                </a:moveTo>
                <a:lnTo>
                  <a:pt x="0" y="48"/>
                </a:lnTo>
                <a:lnTo>
                  <a:pt x="6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5"/>
          <p:cNvSpPr/>
          <p:nvPr/>
        </p:nvSpPr>
        <p:spPr>
          <a:xfrm flipH="1">
            <a:off x="5200200" y="3556080"/>
            <a:ext cx="5076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6"/>
          <p:cNvSpPr/>
          <p:nvPr/>
        </p:nvSpPr>
        <p:spPr>
          <a:xfrm flipH="1">
            <a:off x="5035320" y="360684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7"/>
          <p:cNvSpPr/>
          <p:nvPr/>
        </p:nvSpPr>
        <p:spPr>
          <a:xfrm flipH="1">
            <a:off x="4870080" y="3670200"/>
            <a:ext cx="8892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8"/>
          <p:cNvSpPr/>
          <p:nvPr/>
        </p:nvSpPr>
        <p:spPr>
          <a:xfrm flipH="1">
            <a:off x="4692600" y="3733920"/>
            <a:ext cx="10152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9"/>
          <p:cNvSpPr/>
          <p:nvPr/>
        </p:nvSpPr>
        <p:spPr>
          <a:xfrm flipH="1">
            <a:off x="4527720" y="3797280"/>
            <a:ext cx="8856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20"/>
          <p:cNvSpPr/>
          <p:nvPr/>
        </p:nvSpPr>
        <p:spPr>
          <a:xfrm flipH="1">
            <a:off x="4362120" y="3860640"/>
            <a:ext cx="8892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1"/>
          <p:cNvSpPr/>
          <p:nvPr/>
        </p:nvSpPr>
        <p:spPr>
          <a:xfrm flipH="1">
            <a:off x="4184640" y="3924360"/>
            <a:ext cx="10152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22"/>
          <p:cNvSpPr/>
          <p:nvPr/>
        </p:nvSpPr>
        <p:spPr>
          <a:xfrm flipH="1">
            <a:off x="4070160" y="3987720"/>
            <a:ext cx="3780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3"/>
          <p:cNvSpPr/>
          <p:nvPr/>
        </p:nvSpPr>
        <p:spPr>
          <a:xfrm>
            <a:off x="6013440" y="4038480"/>
            <a:ext cx="1144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24"/>
          <p:cNvSpPr/>
          <p:nvPr/>
        </p:nvSpPr>
        <p:spPr>
          <a:xfrm>
            <a:off x="6000840" y="4013280"/>
            <a:ext cx="127080" cy="101520"/>
          </a:xfrm>
          <a:custGeom>
            <a:avLst/>
            <a:gdLst>
              <a:gd name="textAreaLeft" fmla="*/ 0 w 127080"/>
              <a:gd name="textAreaRight" fmla="*/ 127440 w 1270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80" h="64">
                <a:moveTo>
                  <a:pt x="24" y="0"/>
                </a:moveTo>
                <a:lnTo>
                  <a:pt x="80" y="64"/>
                </a:lnTo>
                <a:lnTo>
                  <a:pt x="0" y="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5251320" y="3556080"/>
            <a:ext cx="3816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>
            <a:off x="5365800" y="3632040"/>
            <a:ext cx="763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27"/>
          <p:cNvSpPr/>
          <p:nvPr/>
        </p:nvSpPr>
        <p:spPr>
          <a:xfrm>
            <a:off x="5518080" y="3720960"/>
            <a:ext cx="763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28"/>
          <p:cNvSpPr/>
          <p:nvPr/>
        </p:nvSpPr>
        <p:spPr>
          <a:xfrm>
            <a:off x="5670720" y="3822840"/>
            <a:ext cx="7596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29"/>
          <p:cNvSpPr/>
          <p:nvPr/>
        </p:nvSpPr>
        <p:spPr>
          <a:xfrm>
            <a:off x="5823000" y="392436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5975280" y="4013280"/>
            <a:ext cx="3816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reeform 31"/>
          <p:cNvSpPr/>
          <p:nvPr/>
        </p:nvSpPr>
        <p:spPr>
          <a:xfrm>
            <a:off x="4870440" y="3873600"/>
            <a:ext cx="622440" cy="253800"/>
          </a:xfrm>
          <a:custGeom>
            <a:avLst/>
            <a:gdLst>
              <a:gd name="textAreaLeft" fmla="*/ 0 w 622440"/>
              <a:gd name="textAreaRight" fmla="*/ 622800 w 622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392" h="160">
                <a:moveTo>
                  <a:pt x="0" y="160"/>
                </a:moveTo>
                <a:lnTo>
                  <a:pt x="72" y="0"/>
                </a:lnTo>
                <a:lnTo>
                  <a:pt x="320" y="0"/>
                </a:lnTo>
                <a:lnTo>
                  <a:pt x="392" y="160"/>
                </a:lnTo>
                <a:lnTo>
                  <a:pt x="0" y="16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reeform 32"/>
          <p:cNvSpPr/>
          <p:nvPr/>
        </p:nvSpPr>
        <p:spPr>
          <a:xfrm>
            <a:off x="4324320" y="2666880"/>
            <a:ext cx="622440" cy="254160"/>
          </a:xfrm>
          <a:custGeom>
            <a:avLst/>
            <a:gdLst>
              <a:gd name="textAreaLeft" fmla="*/ 0 w 622440"/>
              <a:gd name="textAreaRight" fmla="*/ 622800 w 622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392" h="160">
                <a:moveTo>
                  <a:pt x="0" y="160"/>
                </a:moveTo>
                <a:lnTo>
                  <a:pt x="72" y="0"/>
                </a:lnTo>
                <a:lnTo>
                  <a:pt x="320" y="0"/>
                </a:lnTo>
                <a:lnTo>
                  <a:pt x="392" y="160"/>
                </a:lnTo>
                <a:lnTo>
                  <a:pt x="0" y="16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Freeform 33"/>
          <p:cNvSpPr/>
          <p:nvPr/>
        </p:nvSpPr>
        <p:spPr>
          <a:xfrm>
            <a:off x="2521080" y="3809880"/>
            <a:ext cx="622080" cy="254160"/>
          </a:xfrm>
          <a:custGeom>
            <a:avLst/>
            <a:gdLst>
              <a:gd name="textAreaLeft" fmla="*/ 0 w 622080"/>
              <a:gd name="textAreaRight" fmla="*/ 622440 w 62208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392" h="160">
                <a:moveTo>
                  <a:pt x="0" y="160"/>
                </a:moveTo>
                <a:lnTo>
                  <a:pt x="72" y="0"/>
                </a:lnTo>
                <a:lnTo>
                  <a:pt x="320" y="0"/>
                </a:lnTo>
                <a:lnTo>
                  <a:pt x="392" y="160"/>
                </a:lnTo>
                <a:lnTo>
                  <a:pt x="0" y="16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ackag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23924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action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ion diagrams are dynamic  -- they describe how objects collabo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quence Dia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s what messages are sent and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progresses from top to bot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involved are listed left to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s are sent left to right between objects in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Diagram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5" descr="sequencediag"/>
          <p:cNvPicPr/>
          <p:nvPr/>
        </p:nvPicPr>
        <p:blipFill>
          <a:blip r:embed="rId1"/>
          <a:stretch/>
        </p:blipFill>
        <p:spPr>
          <a:xfrm>
            <a:off x="1752480" y="2057400"/>
            <a:ext cx="4876920" cy="36640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>
            <a:off x="1295280" y="21337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04920" y="1371600"/>
            <a:ext cx="15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or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5105520" y="2209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6629760" y="16765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2423520" y="34401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4115880" y="4191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5335200" y="4343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2667960" y="4952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516600" y="59086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reeform 15"/>
          <p:cNvSpPr/>
          <p:nvPr/>
        </p:nvSpPr>
        <p:spPr>
          <a:xfrm>
            <a:off x="1676520" y="5791320"/>
            <a:ext cx="457200" cy="380880"/>
          </a:xfrm>
          <a:custGeom>
            <a:avLst/>
            <a:gdLst>
              <a:gd name="textAreaLeft" fmla="*/ 0 w 457200"/>
              <a:gd name="textAreaRight" fmla="*/ 457560 w 457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88" h="240">
                <a:moveTo>
                  <a:pt x="0" y="240"/>
                </a:moveTo>
                <a:cubicBezTo>
                  <a:pt x="52" y="228"/>
                  <a:pt x="104" y="216"/>
                  <a:pt x="144" y="192"/>
                </a:cubicBezTo>
                <a:cubicBezTo>
                  <a:pt x="184" y="168"/>
                  <a:pt x="216" y="128"/>
                  <a:pt x="240" y="96"/>
                </a:cubicBezTo>
                <a:cubicBezTo>
                  <a:pt x="264" y="64"/>
                  <a:pt x="276" y="32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327200" y="5832360"/>
            <a:ext cx="312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s = Solid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= Dashed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-720" y="42670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19"/>
          <p:cNvSpPr/>
          <p:nvPr/>
        </p:nvSpPr>
        <p:spPr>
          <a:xfrm>
            <a:off x="1600200" y="35053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Diagram : Ti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000680" cy="36385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741240" y="1336680"/>
            <a:ext cx="64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nted Lines show propagation delay of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modeling real-tim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46400" y="6172200"/>
            <a:ext cx="77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essages cross this is usually problematic – race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quence Example: Alarm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alarm goes off, it rings the alarm, puts a message on the display, notifies the monitoring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59436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Diagram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12"/>
          <p:cNvSpPr/>
          <p:nvPr/>
        </p:nvSpPr>
        <p:spPr>
          <a:xfrm>
            <a:off x="168120" y="46080"/>
            <a:ext cx="666756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13" descr=""/>
          <p:cNvPicPr/>
          <p:nvPr/>
        </p:nvPicPr>
        <p:blipFill>
          <a:blip r:embed="rId1"/>
          <a:stretch/>
        </p:blipFill>
        <p:spPr>
          <a:xfrm>
            <a:off x="380880" y="1538280"/>
            <a:ext cx="8610840" cy="509112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14"/>
          <p:cNvSpPr/>
          <p:nvPr/>
        </p:nvSpPr>
        <p:spPr>
          <a:xfrm>
            <a:off x="532080" y="99072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el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boration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on Diagrams show similar information to sequence diagrams, except that the vertical sequence is missing. In its place a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Links - solid lines between the objects that inte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links are Messages - arrows with one or more message name that show the direction and names of the messages sent between objec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hasis on static links as opposed to sequence in the sequence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boration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4419360" cy="2790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"/>
          <p:cNvPicPr/>
          <p:nvPr/>
        </p:nvPicPr>
        <p:blipFill>
          <a:blip r:embed="rId2"/>
          <a:stretch/>
        </p:blipFill>
        <p:spPr>
          <a:xfrm>
            <a:off x="5943600" y="1981080"/>
            <a:ext cx="2838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ibutions to U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48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ncy flow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s the flow of activities involved in a single pro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 what is being proc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ted by boxes with rounded cor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m 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tes which object is responsible for what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ion tha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ted by a diam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tion forking into parallel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ted by solid b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nd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Object 4"/>
          <p:cNvGraphicFramePr/>
          <p:nvPr/>
        </p:nvGraphicFramePr>
        <p:xfrm>
          <a:off x="1447920" y="5791320"/>
          <a:ext cx="260280" cy="2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5791320"/>
                    <a:ext cx="260280" cy="2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5"/>
          <p:cNvGraphicFramePr/>
          <p:nvPr/>
        </p:nvGraphicFramePr>
        <p:xfrm>
          <a:off x="2362320" y="5791320"/>
          <a:ext cx="26676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5791320"/>
                    <a:ext cx="2667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Activity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need multiple diagrams from other points of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5" descr="5%20Activity%20Diagram%20Super"/>
          <p:cNvPicPr/>
          <p:nvPr/>
        </p:nvPicPr>
        <p:blipFill>
          <a:blip r:embed="rId1"/>
          <a:stretch/>
        </p:blipFill>
        <p:spPr>
          <a:xfrm>
            <a:off x="5181480" y="1143000"/>
            <a:ext cx="26956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Diagram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5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24852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Transition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ncy version of a D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s the possible states of the object and the transitions that cause a change in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how incoming calls change th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 are rounded rect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s are arrows from one state to another. Events or conditions that trigger transitions are written beside the arrow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and Final States indicated by circles as in the Activity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state terminates the action; may have multiple final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t of properties and values describing the object in a well defined instant are characteriz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ies (executed inside the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/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s (executed at state entry or ex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y/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t/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s executed due to an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 [Condition] / Action ^Send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tion for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1722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Transi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524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imple Stat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94864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Transi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5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686800" cy="457056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7"/>
          <p:cNvSpPr/>
          <p:nvPr/>
        </p:nvSpPr>
        <p:spPr>
          <a:xfrm>
            <a:off x="609840" y="144792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ng PIN/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Charts – Local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Diagrams can also store their own local variables, do processing on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ary example counting books checked out and retu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1752480" y="3735360"/>
          <a:ext cx="5715000" cy="28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735360"/>
                    <a:ext cx="57150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s, Models and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040" y="1415520"/>
            <a:ext cx="8724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abstraction describing a subset of a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icts selected aspects of 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et of graphical or textual rules for depicting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s and models of a single system may overlap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: Air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: Flight simulator, scal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s: All blueprints, electrical wiring, fuel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s various components in a system and their dependencies,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s the structure of a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 physical collection of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a Package Diagram in that both are used to group elements into logic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Component Diagrams all of the model elements are private with a public interface whereas Package diagrams only display public i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 Diagram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 are shown as rectangles with two tabs at the upper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shed arrows indicate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le and solid line indicates an interface to the 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1476360" cy="8953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"/>
          <p:cNvPicPr/>
          <p:nvPr/>
        </p:nvPicPr>
        <p:blipFill>
          <a:blip r:embed="rId2"/>
          <a:stretch/>
        </p:blipFill>
        <p:spPr>
          <a:xfrm>
            <a:off x="3962520" y="5181480"/>
            <a:ext cx="194292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 Example -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aurant order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interfaces first – comes from Class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5" descr="5%20Interfaces"/>
          <p:cNvPicPr/>
          <p:nvPr/>
        </p:nvPicPr>
        <p:blipFill>
          <a:blip r:embed="rId1"/>
          <a:stretch/>
        </p:blipFill>
        <p:spPr>
          <a:xfrm>
            <a:off x="3124080" y="1447920"/>
            <a:ext cx="55245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onent Example - Com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depiction of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icture 5" descr="5%20Components"/>
          <p:cNvPicPr/>
          <p:nvPr/>
        </p:nvPicPr>
        <p:blipFill>
          <a:blip r:embed="rId1"/>
          <a:stretch/>
        </p:blipFill>
        <p:spPr>
          <a:xfrm>
            <a:off x="1828800" y="2362320"/>
            <a:ext cx="52768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 Example - Lin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ing components with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5" descr="5%20Component%20Diagram"/>
          <p:cNvPicPr/>
          <p:nvPr/>
        </p:nvPicPr>
        <p:blipFill>
          <a:blip r:embed="rId1"/>
          <a:stretch/>
        </p:blipFill>
        <p:spPr>
          <a:xfrm>
            <a:off x="1600200" y="2209680"/>
            <a:ext cx="58672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loyment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s the physical architecture of the hardware and software of the deployed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contain components or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some kind of computational unit; e.g. machine or device (physical or log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relationships among software and hardware in a deliver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s how a system interacts with the external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Deployment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4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295720" cy="23907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6" descr="deploymentdiag"/>
          <p:cNvPicPr/>
          <p:nvPr/>
        </p:nvPicPr>
        <p:blipFill>
          <a:blip r:embed="rId2"/>
          <a:stretch/>
        </p:blipFill>
        <p:spPr>
          <a:xfrm>
            <a:off x="4191120" y="2209680"/>
            <a:ext cx="38480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loyment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4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8458200" cy="439560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6"/>
          <p:cNvSpPr/>
          <p:nvPr/>
        </p:nvSpPr>
        <p:spPr>
          <a:xfrm>
            <a:off x="372600" y="6095880"/>
            <a:ext cx="81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the Component Diagram is combined with the 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and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L is a modeling language that can be used independent of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omg.org/um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nd modifying UML diagrams can be labor and time intensi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tools exist to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ls help keep diagrams, code in sy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sitory for a complete software development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too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ional, Cetus, Embarcad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rgoU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http://plg.uwaterloo.ca/~migod/uml.html for a list of tools, some f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s, Models and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93720" y="1905120"/>
            <a:ext cx="8132760" cy="389880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4"/>
          <p:cNvSpPr/>
          <p:nvPr/>
        </p:nvSpPr>
        <p:spPr>
          <a:xfrm>
            <a:off x="1282680" y="2031840"/>
            <a:ext cx="1663560" cy="1524240"/>
          </a:xfrm>
          <a:prstGeom prst="cloudCallout">
            <a:avLst>
              <a:gd name="adj1" fmla="val -25856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ir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5232240" y="1206360"/>
            <a:ext cx="2349720" cy="1498680"/>
          </a:xfrm>
          <a:prstGeom prst="cloudCallout">
            <a:avLst>
              <a:gd name="adj1" fmla="val -44796"/>
              <a:gd name="adj2" fmla="val 728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lightsi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 flipV="1">
            <a:off x="3860640" y="5257080"/>
            <a:ext cx="2629080" cy="1498680"/>
          </a:xfrm>
          <a:prstGeom prst="cloudCallout">
            <a:avLst>
              <a:gd name="adj1" fmla="val -45351"/>
              <a:gd name="adj2" fmla="val 728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al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591000" y="6705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3187800" y="1587600"/>
            <a:ext cx="1663560" cy="1523880"/>
          </a:xfrm>
          <a:prstGeom prst="cloudCallout">
            <a:avLst>
              <a:gd name="adj1" fmla="val -25856"/>
              <a:gd name="adj2" fmla="val 7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luepr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9"/>
          <p:cNvSpPr/>
          <p:nvPr/>
        </p:nvSpPr>
        <p:spPr>
          <a:xfrm flipV="1">
            <a:off x="6210360" y="4660200"/>
            <a:ext cx="2628720" cy="1498680"/>
          </a:xfrm>
          <a:prstGeom prst="cloudCallout">
            <a:avLst>
              <a:gd name="adj1" fmla="val -45351"/>
              <a:gd name="adj2" fmla="val 728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ectr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L Models, Views,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067600" cy="20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L is a multi-diagrammatic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diagram is a view into a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ram presented from the aspect of a particular stakeh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a partial representation of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semantically consistent with other 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981080" y="3429000"/>
            <a:ext cx="5715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s, Views,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5818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08-27T12:57:18Z</dcterms:modified>
  <cp:revision>58</cp:revision>
  <dc:subject/>
  <dc:title>PowerPoint Presentation</dc:title>
</cp:coreProperties>
</file>